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apa%20was%20a%20rollin'%20stone-EDIT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0CE9-6B4D-4C4F-B8DE-5E4EE042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27E0-2F85-4AC1-AAE9-5039489E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924D-1E51-44BA-9163-913AFAB8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B517-DF1A-40DC-B86C-EBE046A8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CCA3-CF1D-4559-9835-9E22E3E5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1DED-0BC6-424E-AE80-55EB0510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3EDA-B98A-4057-B44F-10092509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FB35-2A9C-4781-95D4-5790D2DD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81B4-DAA0-49F1-AB03-E56D10C3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EEC8-46EC-414C-B07F-8A723115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EC0E-A77B-47B0-88CB-64DAF11E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04FC-DC49-457F-B660-7593C632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0710-7379-4CBE-8811-C7A0DEC5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9C40-25D5-415B-AEBD-974AC6C0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A2B8-34A8-41D2-91E2-15383746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B19D-4220-430C-91D6-15241662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68F8-A209-43E8-ADE6-8260E6B4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F8E0-C112-48EF-A3F1-84F7CFBA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2264-B3D1-4D47-B950-E4734B8A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E30F-50D3-474D-86CC-5CBDE34E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26BB-4ED4-485E-8793-E011A2D4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60F6-D8B4-471F-8ED3-33D6AF96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03E5-D533-47CE-A69E-A4CFF60D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A57A-D1A0-4FAA-BD79-BB4A4F3E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4CA5-174E-4FFB-8A62-BFAAA78E0FC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AFCB-7701-43E5-B0D6-AD15823D9F8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apa%20was%20a%20rollin&apos;%20stone-EDIT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7162920" cy="29718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5f5f5f"/>
            </a:outerShdw>
          </a:effectLst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Palatino Linotype"/>
              </a:rPr>
              <a:t>O MEDO CAUSADO PELA INTELIGÊNC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  <p:sndAc>
      <p:stSnd>
        <p:snd r:embed="rId1" name="Papa%20was%20a%20rollin'%20stone-EDI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i="1" lang="en-US" sz="4400" spc="-1" strike="noStrike">
                <a:solidFill>
                  <a:srgbClr val="f8f8f8"/>
                </a:solidFill>
                <a:latin typeface="Times New Roman"/>
              </a:rPr>
              <a:t>Há tantos burros mandando em homens de inteligência,que, às vezes, fico pensando que a burrice é uma Ciência”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A maior parte das pessoas encasteladas em posições políticas é medíocre e tem um indisfarçável medo da inteligência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Temos de admitir que, de um modo geral, os medíocres são mais obstinados na conquista de posições.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Sabem ocupar os espaços vazios deixados pelos talentosos displicentes que não revelam o apetite do poder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Mas, é preciso considerar que esses medíocres ladinos, oportunistas e ambiciosos, têm o hábito de salvaguardar suas posições conquistadas com verdadeiras muralhas de granito por onde talentosos não conseguem passar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Em todas as áreas encontramos dessas fortalezas estabelecidas, as panelinhas do arrivismo, inexpugnáveis às legiões dos lúcidos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Dentro desse raciocínio, que poderia ser uma extensão do </a:t>
            </a:r>
            <a:r>
              <a:rPr b="0" i="1" lang="pt-BR" sz="4400" spc="-1" strike="noStrike">
                <a:solidFill>
                  <a:srgbClr val="f8f8f8"/>
                </a:solidFill>
                <a:latin typeface="Times New Roman"/>
              </a:rPr>
              <a:t>"Elogio da Loucura"</a:t>
            </a: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, de Erasmo de Roterdan, somos forçados a admitir que uma pessoa precisa fingir de burra se quiser vencer na vida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É pecado fazer sombra a alguém até numa conversa social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Assim como um grupo de senhoras burguesas bem casadas boicota, automaticamente, a entrada de uma jovem mulher bonita no seu círculo de convivência,por medo de perder seus maridos, também os encastelados medíocres se fecham como ostras, à simples aparição de um talentoso jovem que os possa ameaçar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Eles conhecem bem suas limitações, sabem como lhes custa desempenhar tarefas que os mais dotados realizam com uma perna nas costas..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Quando Winston Churchill, ainda jovem, acabou de pronunciar seu discurso de estréia na Câmara dos Comuns, foi perguntar a um velho parlamentar, amigo de seu pai, o que tinha achado do seu primeiro desempenho naquela assembléia de vedetes políticas.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Enfim, na medida em que admiram a facilidade com que os mais lúcidos resolvem problemas, os medíocres os repudiam para se defender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É um paradoxo angustiante !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Infelizmente, temos de viver segundo essas regras absurdas que transformam a inteligência numa espécie de desvantagem perante a vida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o é sábio o velho conselho de Nelson Rodrigues...                                </a:t>
            </a: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"Finge-te de idiota, e terás o céu e a terra"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 problema é que os inteligentes gostam de brilhar!                                            Que Deus os proteja, então, dos medíocres!..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057400" y="4267080"/>
            <a:ext cx="3048120" cy="4597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Música incidental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72428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dddddd"/>
                </a:solidFill>
                <a:latin typeface="Palatino Linotype"/>
              </a:rPr>
              <a:t>Papa was a rolling stone ( The Temptations 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4692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Comic Sans MS"/>
              </a:rPr>
              <a:t>nilsonhussar@yahoo.com.b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O velho pôs a mão no ombro de Churchill e disse, em tom paternal:                                                </a:t>
            </a:r>
            <a:r>
              <a:rPr b="0" i="1" lang="pt-BR" sz="4400" spc="-1" strike="noStrike">
                <a:solidFill>
                  <a:srgbClr val="dddddd"/>
                </a:solidFill>
                <a:latin typeface="Times New Roman"/>
              </a:rPr>
              <a:t>“Meu jovem, você cometeu um grande erro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Foi muito brilhante neste seu primeiro discurso na Casa.                         Isso é imperdoável !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dddddd"/>
                </a:solidFill>
                <a:latin typeface="Times New Roman"/>
              </a:rPr>
              <a:t>Devia ter começado um pouco mais na sombra.                                    Devia ter gaguejado um pouco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dddddd"/>
                </a:solidFill>
                <a:latin typeface="Times New Roman"/>
              </a:rPr>
              <a:t>Com a inteligência que demonstrou hoje, deve ter conquistado, no mínimo, uns trinta inimigos.                                               O talento assusta"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78483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Ali estava uma das melhores lições de abismo que um velho sábio pôde dar ao pupilo que se iniciava n'uma carreira difícil.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Isso, na Inglaterra.                           Imaginem aqui, no Brasil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Não é demais lembrar a famosa trova de Ruy Barbosa: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6:15:39Z</dcterms:created>
  <dc:creator>NS</dc:creator>
  <dc:description/>
  <dc:language>en-US</dc:language>
  <cp:lastModifiedBy>NS</cp:lastModifiedBy>
  <dcterms:modified xsi:type="dcterms:W3CDTF">2005-09-02T16:58:25Z</dcterms:modified>
  <cp:revision>2</cp:revision>
  <dc:subject/>
  <dc:title>O MEDO CAUSADO PELA INTELIGÊNCIA</dc:title>
</cp:coreProperties>
</file>