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apa%20was%20a%20rollin'%20stone-EDIT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411A-20DE-4FB9-B7AA-CCE0E46F9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564-C205-45C3-96F4-BDB2E5C3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CBE-4F12-461B-A2B4-53625D59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FD3-8AB6-4C3D-B79F-CFD7445C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ED99-6305-4CFC-A876-8034C6F0A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3D83-E961-40F5-AA28-C568D1C4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8090-F9B1-49EA-B282-2F9B828B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5C3F-2D61-4079-ABF3-698D0718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A361-5D5C-4F23-A1DA-7DAB6F26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95B7-3A74-4EB5-A506-093BFF30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B447-6609-470A-8F64-AB21BFFE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1BB-CFE9-4CC2-8725-B1F19807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12E6-8846-48B6-A53C-B1718BE9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B04B-B72F-4B57-B9A1-C92D1401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59D0-6558-484D-985D-8CCD7E62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68CC-7862-4018-97F7-B73EC898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5445-C660-4426-9CC1-C5A08E11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AD7-48E1-46E0-940A-E0C4161B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05CC-91C2-4714-B64E-E68B3F73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97E4-A8C7-4928-B053-48DEDB8C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C42-8697-4222-B53B-34643C38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D5C9-6717-4C81-B31E-8F8AFCDB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B65-B992-4B0C-AD48-FA45ADCE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534B-5E31-45AA-A193-AF02D1F9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8756-8A6A-46A4-AC8A-072CE29E35C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892E-342D-4F08-9B1B-29101AF634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Papa%20was%20a%20rollin&apos;%20stone-EDIT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7162920" cy="29718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5f5f5f"/>
            </a:outerShdw>
          </a:effectLst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Palatino Linotype"/>
              </a:rPr>
              <a:t>O MEDO CAUSADO PELA INTELIGÊNCI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  <p:sndAc>
      <p:stSnd>
        <p:snd r:embed="rId1" name="Papa%20was%20a%20rollin'%20stone-EDI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i="1" lang="en-US" sz="4400" spc="-1" strike="noStrike">
                <a:solidFill>
                  <a:srgbClr val="f8f8f8"/>
                </a:solidFill>
                <a:latin typeface="Times New Roman"/>
              </a:rPr>
              <a:t>Há tantos burros mandando em homens de inteligência,que, às vezes, fico pensando que a burrice é uma Ciência”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 maior parte das pessoas encasteladas em posições políticas é medíocre e tem um indisfarçável medo da inteligência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Temos de admitir que, de um modo geral, os medíocres são mais obstinados na conquista de posições.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Sabem ocupar os espaços vazios deixados pelos talentosos displicentes que não revelam o apetite do poder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Mas, é preciso considerar que esses medíocres ladinos, oportunistas e ambiciosos, têm o hábito de salvaguardar suas posições conquistadas com verdadeiras muralhas de granito por onde talentosos não conseguem passar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Em todas as áreas encontramos dessas fortalezas estabelecidas, as panelinhas do arrivismo, inexpugnáveis às legiões dos lúcidos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Dentro desse raciocínio, que poderia ser uma extensão do </a:t>
            </a:r>
            <a:r>
              <a:rPr b="0" i="1" lang="pt-BR" sz="4400" spc="-1" strike="noStrike">
                <a:solidFill>
                  <a:srgbClr val="f8f8f8"/>
                </a:solidFill>
                <a:latin typeface="Times New Roman"/>
              </a:rPr>
              <a:t>"Elogio da Loucura"</a:t>
            </a: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, de Erasmo de Roterdan, somos forçados a admitir que uma pessoa precisa fingir de burra se quiser vencer na vida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É pecado fazer sombra a alguém até numa conversa social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ssim como um grupo de senhoras burguesas bem casadas boicota, automaticamente, a entrada de uma jovem mulher bonita no seu círculo de convivência,por medo de perder seus maridos, também os encastelados medíocres se fecham como ostras, à simples aparição de um talentoso jovem que os possa ameaçar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Eles conhecem bem suas limitações, sabem como lhes custa desempenhar tarefas que os mais dotados realizam com uma perna nas costas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Quando Winston Churchill, ainda jovem, acabou de pronunciar seu discurso de estréia na Câmara dos Comuns, foi perguntar a um velho parlamentar, amigo de seu pai, o que tinha achado do seu primeiro desempenho naquela assembléia de vedetes políticas.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Enfim, na medida em que admiram a facilidade com que os mais lúcidos resolvem problemas, os medíocres os repudiam para se defender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É um paradoxo angustiante 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Infelizmente, temos de viver segundo essas regras absurdas que transformam a inteligência numa espécie de desvantagem perante a vida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o é sábio o velho conselho de Nelson Rodrigues...                                </a:t>
            </a: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"Finge-te de idiota, e terás o céu e a terra"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10666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 problema é que os inteligentes gostam de brilhar!                                            Que Deus os proteja, então, dos medíocres!..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057400" y="4267080"/>
            <a:ext cx="3048120" cy="4597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Música incidental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724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dddddd"/>
                </a:solidFill>
                <a:latin typeface="Palatino Linotype"/>
              </a:rPr>
              <a:t>Papa was a rolling stone ( The Temptations 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6469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Comic Sans MS"/>
              </a:rPr>
              <a:t>nilsonhussar@yahoo.com.br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O velho pôs a mão no ombro de Churchill e disse, em tom paternal:                                                </a:t>
            </a:r>
            <a:r>
              <a:rPr b="0" i="1" lang="pt-BR" sz="4400" spc="-1" strike="noStrike">
                <a:solidFill>
                  <a:srgbClr val="dddddd"/>
                </a:solidFill>
                <a:latin typeface="Times New Roman"/>
              </a:rPr>
              <a:t>“Meu jovem, você cometeu um grande erro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Foi muito brilhante neste seu primeiro discurso na Casa.                         Isso é imperdoável !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dddddd"/>
                </a:solidFill>
                <a:latin typeface="Times New Roman"/>
              </a:rPr>
              <a:t>Devia ter começado um pouco mais na sombra.                                    Devia ter gaguejado um pouco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dddddd"/>
                </a:solidFill>
                <a:latin typeface="Times New Roman"/>
              </a:rPr>
              <a:t>Com a inteligência que demonstrou hoje, deve ter conquistado, no mínimo, uns trinta inimigos.                                               O talento assusta"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84836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Ali estava uma das melhores lições de abismo que um velho sábio pôde dar ao pupilo que se iniciava n'uma carreira difícil.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Isso, na Inglaterra.                           Imaginem aqui, no Brasil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Não é demais lembrar a famosa trova de Ruy Barbosa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6:15:39Z</dcterms:created>
  <dc:creator>NS</dc:creator>
  <dc:description/>
  <dc:language>en-US</dc:language>
  <cp:lastModifiedBy>NS</cp:lastModifiedBy>
  <dcterms:modified xsi:type="dcterms:W3CDTF">2005-09-02T16:58:25Z</dcterms:modified>
  <cp:revision>2</cp:revision>
  <dc:subject/>
  <dc:title>O MEDO CAUSADO PELA INTELIGÊNCIA</dc:title>
</cp:coreProperties>
</file>